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33F-1E32-4389-B622-5DEB606F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661-E352-4D7D-9A98-11B047D1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191-EEEB-47C6-9D89-872C7251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4EE-2550-426F-A0E1-4D331BF9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0F6B-7CCF-4923-B115-705BB559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42C8-2B65-46F2-8A3B-B3BCA093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1EE5-AC17-4A4F-AD17-66EC7CB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50F-3EAB-45D7-A96C-793727A4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8486-F90D-47A2-8B8D-AACB7432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DFE4-05B8-49FA-99CB-6CBB0A0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F6BE-625E-43A7-BC1B-56BD657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BF6-F823-4BE7-847A-2687DBFF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FC58-7F45-4DD9-9F19-4EB30CB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1BDB-1FC1-4001-BABD-C2D0DBC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4DE6-12EA-4E4F-BC5B-276E622F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D262-BA6F-4EDB-91BF-90D6D0AA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9E1E-4C67-4AD3-BF87-AA00FE3A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3CC-2FB6-4EE3-8A1A-53532020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C9B-CDB7-422F-8120-5A4F1266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8B7-5BFD-41E9-96E0-7F379EE2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845-8095-423D-B392-E89D5C21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2FC-7038-4861-B44E-097B4F2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224-FF4A-4558-9CDC-E8CAD5C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878-A5A2-46EB-9B59-597CB1B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115D-26ED-4260-A6D6-6536B75D2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360-8DB4-4E14-A7B7-6DBE425BA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ing Student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inding the resources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an R. Odden and Sarah J. Archib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review - Good to Great: Social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Office/Superintendent Interview and Ref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develop specific questions in class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send me question answers so can be posted anonym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4 page reflection on what you learned and made you think about for you as a school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Development Plan and 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a PD plan that will encompass the 6 ke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conduct an audit p.109 thinking about the 6 resource are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 on what resource allocation decisions you would need to make this a viable plan for your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 Steps to Doubling Student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Understanding the performance problem and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et ambitious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hange the curriculum program and create a new instruc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Formative assessments and data-based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Ongoing, intensive professi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Using time efficiently and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Extending learning time for struggl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Collaborative, professional culture (P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Widespread and distributed instructional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Professional and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nto 3 groups of 3 and 2 groups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ill assign your group 2 of the 10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presenting out each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the step is and helpful ins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hallenge yourself to apply it to your loc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use this step at your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give a local exa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Four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ing Class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ocating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ocating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wid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ctwid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 for effective profession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Professional Development = change in teachers’ instructional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uration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ollective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earning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-development fiscal and program aud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time fo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uring the school day and year for collaborative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al C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ellaneous resources for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ding Extra-Help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and small-group tu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Seven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ing School Finance Adequacy to Doubling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meant b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finance adequ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e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your school does in these two ar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oing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need to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One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ral Distr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you gain for your s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-Sized Distr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you gain for your s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Minority, High-Poverty 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r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you gain for your s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Two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ucational Chang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to improve student achie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organizational chan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aying foundation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reating a new educational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mplementing, monitoring, and continuously impr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ure to improve student achie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what success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you are already at schools that are considered success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at determ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you challenge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ing foundation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quote from page 49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assessment or self-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you do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you don’t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understanding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C? - not tradit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ng a new educational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quote page 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ing, scheduling, and staffing the schools according to the imperatives of their new educational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is schools would have not known what resources to drop and what resources to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your current educational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way you allocate your resources at the school reflect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, monitoring, and continuous impr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unds pretty straight-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ime to write down five different programs at your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ere they implemen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they monito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know they are ef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rives programs to be adjusted or chang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what you wrote down with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you answer all the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questions are you struggling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how you could begin to start answering some of those questions about your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some of the programs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3440" y="52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9:59:45Z</dcterms:created>
  <dc:creator>USF User</dc:creator>
  <dc:description/>
  <dc:language>en-US</dc:language>
  <cp:lastModifiedBy>USF User</cp:lastModifiedBy>
  <dcterms:modified xsi:type="dcterms:W3CDTF">2009-10-31T00:04:20Z</dcterms:modified>
  <cp:revision>7</cp:revision>
  <dc:subject/>
  <dc:title>Doubling Student Performance . . . and finding the resources to do it</dc:title>
</cp:coreProperties>
</file>